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D41-1444-412C-B137-E8F7CA5A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66C-2D01-4F4B-AF35-7FA4B5B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973-F05B-4137-B24B-6CA7E502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30B-A36B-45CD-B001-B2D85812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276-F79D-4EAD-B216-759E632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524-5098-460F-985A-52D6AF22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2A4-4C47-4725-B88B-E8B0B4F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494-D7A7-436A-A882-8309BE8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F9C-5A31-497F-9568-4E03022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45D-5269-4D02-BC8F-CD8C4EE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BB7-267C-4699-AA14-4219C188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BFE-8049-4C0A-B796-D7662133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34F7-DDB7-4210-A1A8-34FB3056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nglicansonline.org/basics/thirty-nine_article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0 to early 160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 and Religiosi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Secular Authority Ques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- Diet of Aug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-Reluctantly Justified Politic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x - “Blast the Trump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takes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ism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Stuart- Queen of S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(Blood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a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Phi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1000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“Book of Common Prayer” Cran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les became Radicalized (including John Kn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Qu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Articles of Religio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glicansonline.org/basics/thirty-nine_article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based Thomas Cranmer’s Book of Pr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s of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tans demand mor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of Sabbath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l Bull Excommunicates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ism 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gationalists demand Presby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s Torch Protestan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Dutch in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isassociated w/Sea Beg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II also supporting Catholics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ant William of Orang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ry Navarre converts back to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s cousin, Mary Queen of Sc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moke clears- Church of England or dead/exiled (Conventicle Act 15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rmada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 blew and they were scat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England v.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 Queen v. Unrequited? Marriage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Beggars in Netherlands, Piracy at Sea (Drake) + Support of Netherlands-&gt;Ar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da-&gt;30,000 to 50,000 m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communications, weak leadership and a poo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rake delayed onset-&gt;attacked Cad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St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 Grand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Mary of Guise (French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5 sent to France (Devote 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arried to Henry II of France’s Son (Francis II), Mary becomes Queen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dies-&gt;Queen of Scotland,Husband dies-&gt; returns to Scotland 1561-&gt;remarries-&gt;has a son-&gt;Palace intrigue-Mary abdicates- one year old son-&gt;James VI-&gt;Mary escapes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land-&gt;Protestant-&gt;John K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VI Prote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Spain secretly conspire w/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to hand over crown to Philip II (Babington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 de Medici marries Henr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Huguenot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Kings- Intrigue and p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(Valois) 1547-15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s Catherine d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known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harles (became Charles IX, Catherine was Regent- 8 of 14 years of reign),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nry (became Henry III- note was also King of Poland-) 1589 stabbed to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rgueritte (married Henry of Navarre (Henry IV) St. Bartholomews Massacre!-&gt;later divorced h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ho married Philip II of Spain (at her wedding, Henry II jousted got hurt and die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(became Francis II but died at just 16) married Mary, Queen of Sco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eu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olerance gave way to intolerance (Edict of Fountainebleau 1540), smattering of tolerance (1562- January Ed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of Population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rd of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Noblewoman! Charlotte de Bourbon marries William of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rbon family conversions-&gt;Other noble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 Fighting begins- Massacre at Vassy. Guise attack on Huguenots. Protestant Churches burned, congregant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led to Intr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I dies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IX killed by his m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, alienates Catholics, bungles an assassination and is himself 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- Expert at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ing Guise and Bou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Degrees of 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clear the House of Valois wouldn’t gain throne-&gt;next in Line-&gt;Bourbo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 family conversions to Protestan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I’s death-&gt;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2- Catherine conspires w/Guise family against Bourbons- St. Bartholomew’s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&gt;Guise family plots w/Philip’s Spain against Henry III- Henry assassinates Duk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ilip II married into Valois family and his daughter was to marry Henry of Guise (aiming to be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96 Henry IV (Bourbon) enters into treaty w/Hous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sacre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t. Bartholomew’s Day Massac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ugust 15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 One Week-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00,000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French Calvinists (Huguenots)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friends close but your enemies clos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tensions rise, belief Henry III not vigilant-&gt;Catholic Leagu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tes Catholics, amends Peace of Bealieu- provided some rights to Hugue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Navarre leads Prote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League (Guise) supported by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Henry kills Guise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liation pushes Henry III to ally w/Henry Nav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-&gt;Henry stabbed by fervent mo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ldren-&gt;Bourbon family tak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 (Henry IV)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is is worth a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ligions Several Times (at least 3 times was R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DICT OF 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98-RELIGIOUS TOLERATION- PROTESTANTS ARE ALLOWED TO LIVE IN FRANCE, no services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king throne converte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96 Treaty w/Gui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1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to describe moderate Catholic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ahead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sts as opposed to ide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ere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nos (ex-Jews), Moriscos (ex-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dinand (Uncle) has 1/2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ustrian/Spanish Habsbu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Reformation will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- Mary has died, Elizabeth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- Calv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10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Governm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ly raised taxes (10% sales)-&gt;alie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corial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room next to the Al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cy through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ng the Iberian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the Princess of 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Tudor (Maria Princess of Portugal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ing Elizabeth (Mary Tudor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incite French Cat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Elizabeth of Valois (Catherine de’ Medici’s and Henry II daughter)- died—Philip totaled 4 wives in the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Flanks and the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 Battle of Lepanto (note: Cervantes who wrote Don Quixote injured in bat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mans defeated -Spain-&gt;control W. 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Moriscos ex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ess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Provinces (Netherlands) Calvinists rise up and become Independ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 Iberia (15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 inherited, I bought, I conqu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dies w/out an 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(Uncle) claim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 W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influx Silver (New World) -&gt; massive inflation-&gt;Grain prices up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declares Bankruptcy sever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sperous area, Netherlands, gains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d Jews and Muslims leav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ous area-  Substantial Textil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t and Roman Catholic 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 Granvelle-&gt;Catholicize Country- centraliz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t Margaret imposes Council of T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ed oppose Cathol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566 Calvinists vandalize Catholic Chu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Philip retaliates-&gt;Duke of Alba Governor General-Council of Troubles=Council of Blood-&gt;1000s leave, many executed-&gt; William of Orange rises (assassinated 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eggars (includes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 retaliates,”Spanish Fury”@ Antwerp, 7000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rovinces-&gt;Republic (Union of Brusse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and Protestant Provinces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evicted (Perpetual Ed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Brussels-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Union of Arras (eventually 1820s becomes Belgium…note what’s happening there to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stant Union of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of Orang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Supports Dutch-&gt;troops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d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35:48Z</dcterms:created>
  <dc:creator>Steve Balazs</dc:creator>
  <dc:description/>
  <dc:language>en-US</dc:language>
  <cp:lastModifiedBy>Local User</cp:lastModifiedBy>
  <dcterms:modified xsi:type="dcterms:W3CDTF">2011-10-03T11:41:44Z</dcterms:modified>
  <cp:revision>33</cp:revision>
  <dc:subject/>
  <dc:title>Six Degrees of Philip II</dc:title>
</cp:coreProperties>
</file>